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3AB-BB7B-4C2E-95A4-53F977CE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CF3-5798-4A8B-A7DF-485EDDE0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E9B-8CA8-40C4-B2B3-FBA4E7B7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F6F-FCFD-4017-8853-B9DA3750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0EA-21CD-4758-815F-42A466BF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00B-041D-4D15-B277-5842B795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E8C-377B-40CA-B628-F995F7AD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62C-203F-416D-864B-DB6A614C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C28-E21D-4E9C-BD22-61E2B9E6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7F7-245C-4244-9132-1130581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818-8263-4E16-9692-6E67675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493-3C67-45F1-80DB-E6ACAD7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D4B6-A163-4825-9256-67430F14B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4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115902561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71640" y="1557360"/>
            <a:ext cx="573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2976480"/>
            <a:ext cx="4176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60"/>
          <p:cNvPicPr/>
          <p:nvPr/>
        </p:nvPicPr>
        <p:blipFill>
          <a:blip r:embed="rId2"/>
          <a:stretch/>
        </p:blipFill>
        <p:spPr>
          <a:xfrm>
            <a:off x="0" y="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Rectangle 6"/>
          <p:cNvGrpSpPr/>
          <p:nvPr/>
        </p:nvGrpSpPr>
        <p:grpSpPr>
          <a:xfrm>
            <a:off x="2352600" y="1809720"/>
            <a:ext cx="6523200" cy="4425840"/>
            <a:chOff x="2352600" y="1809720"/>
            <a:chExt cx="6523200" cy="4425840"/>
          </a:xfrm>
        </p:grpSpPr>
        <p:pic>
          <p:nvPicPr>
            <p:cNvPr id="188" name="Rectangle 6" descr=""/>
            <p:cNvPicPr/>
            <p:nvPr/>
          </p:nvPicPr>
          <p:blipFill>
            <a:blip r:embed="rId1"/>
            <a:stretch/>
          </p:blipFill>
          <p:spPr>
            <a:xfrm>
              <a:off x="2352600" y="1809720"/>
              <a:ext cx="652320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11280" y="1844640"/>
              <a:ext cx="640872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250920" y="0"/>
            <a:ext cx="3246480" cy="3889440"/>
          </a:xfrm>
          <a:prstGeom prst="rect">
            <a:avLst/>
          </a:prstGeom>
          <a:ln w="0">
            <a:noFill/>
          </a:ln>
        </p:spPr>
      </p:pic>
      <p:grpSp>
        <p:nvGrpSpPr>
          <p:cNvPr id="191" name="WordArt 9"/>
          <p:cNvGrpSpPr/>
          <p:nvPr/>
        </p:nvGrpSpPr>
        <p:grpSpPr>
          <a:xfrm>
            <a:off x="2487600" y="1841400"/>
            <a:ext cx="5838840" cy="4619880"/>
            <a:chOff x="2487600" y="1841400"/>
            <a:chExt cx="5838840" cy="4619880"/>
          </a:xfrm>
        </p:grpSpPr>
        <p:pic>
          <p:nvPicPr>
            <p:cNvPr id="192" name="WordArt 9" descr=""/>
            <p:cNvPicPr/>
            <p:nvPr/>
          </p:nvPicPr>
          <p:blipFill>
            <a:blip r:embed="rId3"/>
            <a:stretch/>
          </p:blipFill>
          <p:spPr>
            <a:xfrm>
              <a:off x="2487600" y="1841400"/>
              <a:ext cx="583884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490840" y="1849320"/>
              <a:ext cx="583236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WordArt 11"/>
          <p:cNvSpPr txBox="1"/>
          <p:nvPr/>
        </p:nvSpPr>
        <p:spPr>
          <a:xfrm>
            <a:off x="2627280" y="2019240"/>
            <a:ext cx="5832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7640" y="17953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числе 470 тысяч 3 десятка 6 един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>
            <a:hlinkClick r:id="rId4" action="ppaction://hlinksldjump"/>
          </p:cNvPr>
          <p:cNvSpPr/>
          <p:nvPr/>
        </p:nvSpPr>
        <p:spPr>
          <a:xfrm>
            <a:off x="1116000" y="3860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427640" y="179532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ая цифра стоит в разряде сотен в числе        4325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>
            <a:hlinkClick r:id="rId3" action="ppaction://hlinksldjump"/>
          </p:cNvPr>
          <p:cNvSpPr/>
          <p:nvPr/>
        </p:nvSpPr>
        <p:spPr>
          <a:xfrm>
            <a:off x="1836720" y="2997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>
            <a:hlinkClick r:id="rId4" action="ppaction://hlinksldjump"/>
          </p:cNvPr>
          <p:cNvSpPr/>
          <p:nvPr/>
        </p:nvSpPr>
        <p:spPr>
          <a:xfrm>
            <a:off x="183672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>
            <a:hlinkClick r:id="rId5" action="ppaction://hlinksldjump"/>
          </p:cNvPr>
          <p:cNvSpPr/>
          <p:nvPr/>
        </p:nvSpPr>
        <p:spPr>
          <a:xfrm>
            <a:off x="183672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>
            <a:hlinkClick r:id="" action="ppaction://hlinkshowjump?jump=nextslide"/>
            <a:hlinkClick r:id="rId6"/>
          </p:cNvPr>
          <p:cNvSpPr/>
          <p:nvPr/>
        </p:nvSpPr>
        <p:spPr>
          <a:xfrm>
            <a:off x="183672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0131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следующее для числа 6099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10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99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0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27640" y="1197000"/>
            <a:ext cx="439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из двух уравнений неизвестное находится слож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>
            <a:hlinkClick r:id="rId3" action="ppaction://hlinksldjump"/>
          </p:cNvPr>
          <p:cNvSpPr/>
          <p:nvPr/>
        </p:nvSpPr>
        <p:spPr>
          <a:xfrm>
            <a:off x="61128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7 – х =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>
            <a:hlinkClick r:id="" action="ppaction://hlinkshowjump?jump=nextslide"/>
            <a:hlinkClick r:id="rId4"/>
          </p:cNvPr>
          <p:cNvSpPr/>
          <p:nvPr/>
        </p:nvSpPr>
        <p:spPr>
          <a:xfrm>
            <a:off x="61128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х - 100 = 4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427640" y="155736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ажите, как правильно выразить 51т3ц в килограм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>
            <a:hlinkClick r:id="rId4" action="ppaction://hlinksldjump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>
            <a:hlinkClick r:id="" action="ppaction://hlinkshowjump?jump=nextslide"/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427640" y="1171440"/>
            <a:ext cx="43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ыбери правильный результат для выраж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840403 – 800690: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>
            <a:hlinkClick r:id="rId4"/>
          </p:cNvPr>
          <p:cNvSpPr/>
          <p:nvPr/>
        </p:nvSpPr>
        <p:spPr>
          <a:xfrm>
            <a:off x="1332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8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>
            <a:hlinkClick r:id="rId5"/>
          </p:cNvPr>
          <p:cNvSpPr/>
          <p:nvPr/>
        </p:nvSpPr>
        <p:spPr>
          <a:xfrm>
            <a:off x="1332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6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>
            <a:hlinkClick r:id="rId6"/>
          </p:cNvPr>
          <p:cNvSpPr/>
          <p:nvPr/>
        </p:nvSpPr>
        <p:spPr>
          <a:xfrm>
            <a:off x="1332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8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427640" y="692280"/>
            <a:ext cx="4392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От пристани в одно и то же время в противоположных направлениях отошли два теплохода. Через 3 часа расстояние между ними было 210 км. Один теплоход шел со скоростью 40 км/ч. Найдите скорость второго тепл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>
            <a:hlinkClick r:id="rId3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>
            <a:hlinkClick r:id="rId6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film_225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 rot="4455600">
            <a:off x="5138280" y="2856240"/>
            <a:ext cx="3743280" cy="3600360"/>
          </a:xfrm>
          <a:prstGeom prst="cloudCallout">
            <a:avLst>
              <a:gd name="adj1" fmla="val -64652"/>
              <a:gd name="adj2" fmla="val 3760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 rot="2023800">
            <a:off x="5363640" y="3716280"/>
            <a:ext cx="3356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й, я ошиб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10800"/>
                </a:moveTo>
                <a:lnTo>
                  <a:pt x="26817" y="3794"/>
                </a:lnTo>
                <a:lnTo>
                  <a:pt x="26817" y="17806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03:47Z</dcterms:created>
  <dc:creator>Admin</dc:creator>
  <dc:description/>
  <dc:language>en-US</dc:language>
  <cp:lastModifiedBy>Макаров</cp:lastModifiedBy>
  <dcterms:modified xsi:type="dcterms:W3CDTF">2012-03-23T11:04:33Z</dcterms:modified>
  <cp:revision>11</cp:revision>
  <dc:subject/>
  <dc:title>Слайд 1</dc:title>
</cp:coreProperties>
</file>